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3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F40D1C-DB9F-45FC-8B44-1DFAC97150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9000" y="694800"/>
            <a:ext cx="4651560" cy="348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601"/>
                </a:solidFill>
                <a:latin typeface="Segoe Semibold"/>
              </a:rPr>
              <a:t>Click to move the slide</a:t>
            </a: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0200" y="44164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9160"/>
            <a:ext cx="5794200" cy="355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700" spc="-1" strike="noStrike">
                <a:solidFill>
                  <a:srgbClr val="000000"/>
                </a:solidFill>
                <a:latin typeface="Sego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Segoe"/>
              </a:rPr>
              <a:t>&lt;footer&gt;</a:t>
            </a:r>
            <a:r>
              <a:rPr b="0" lang="en-US" sz="700" spc="-1" strike="noStrike">
                <a:solidFill>
                  <a:srgbClr val="000000"/>
                </a:solidFill>
                <a:latin typeface="Segoe"/>
              </a:rPr>
              <a:t>© 2004 Microsoft Corporation.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Segoe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5707080" y="8827560"/>
            <a:ext cx="1301760" cy="466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24D6AC-AF74-4FE8-BC2E-E89811650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707080" y="8827560"/>
            <a:ext cx="1301760" cy="466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0F9A36-87B4-4AF8-9E2C-700F40AA9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2320" y="1596600"/>
            <a:ext cx="838044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2320" y="3806640"/>
            <a:ext cx="838044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2320" y="159660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59660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2320" y="380664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80664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2320" y="1596600"/>
            <a:ext cx="26982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5880" y="1596600"/>
            <a:ext cx="26982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1596600"/>
            <a:ext cx="26982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2320" y="3806640"/>
            <a:ext cx="26982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5880" y="3806640"/>
            <a:ext cx="26982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806640"/>
            <a:ext cx="26982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2320" y="1596600"/>
            <a:ext cx="8380440" cy="42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2320" y="1596600"/>
            <a:ext cx="8380440" cy="42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2320" y="1596600"/>
            <a:ext cx="4089600" cy="42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596600"/>
            <a:ext cx="4089600" cy="42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2320" y="614160"/>
            <a:ext cx="8380440" cy="60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2320" y="159660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596600"/>
            <a:ext cx="4089600" cy="42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2320" y="380664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2320" y="1596600"/>
            <a:ext cx="4089600" cy="42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59660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80664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2320" y="159660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59660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2320" y="3806640"/>
            <a:ext cx="838044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717480"/>
            <a:ext cx="9144000" cy="6140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2320" y="1596600"/>
            <a:ext cx="8380440" cy="42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1400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675720" indent="-33588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013400" indent="-33588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350000" indent="-3344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687680" indent="-3362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687680" indent="-3362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687680" indent="-3362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"/>
          <p:cNvSpPr/>
          <p:nvPr/>
        </p:nvSpPr>
        <p:spPr>
          <a:xfrm>
            <a:off x="-7560" y="6541920"/>
            <a:ext cx="31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www.managedservicesuniversity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59080" y="6556320"/>
            <a:ext cx="249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2005 Intelligent Enterprise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60200" y="6491160"/>
            <a:ext cx="1303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12DE-21ED-409C-AFD2-0211F5B9422A}" type="slidenum"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13.png"/><Relationship Id="rId6" Type="http://schemas.openxmlformats.org/officeDocument/2006/relationships/image" Target="../media/image3.png"/><Relationship Id="rId7" Type="http://schemas.openxmlformats.org/officeDocument/2006/relationships/image" Target="../media/image13.png"/><Relationship Id="rId8" Type="http://schemas.openxmlformats.org/officeDocument/2006/relationships/image" Target="../media/image3.png"/><Relationship Id="rId9" Type="http://schemas.openxmlformats.org/officeDocument/2006/relationships/image" Target="../media/image13.png"/><Relationship Id="rId10" Type="http://schemas.openxmlformats.org/officeDocument/2006/relationships/image" Target="../media/image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image" Target="../media/image3.png"/><Relationship Id="rId7" Type="http://schemas.openxmlformats.org/officeDocument/2006/relationships/image" Target="../media/image12.png"/><Relationship Id="rId8" Type="http://schemas.openxmlformats.org/officeDocument/2006/relationships/image" Target="../media/image3.png"/><Relationship Id="rId9" Type="http://schemas.openxmlformats.org/officeDocument/2006/relationships/image" Target="../media/image12.png"/><Relationship Id="rId10" Type="http://schemas.openxmlformats.org/officeDocument/2006/relationships/image" Target="../media/image3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image" Target="../media/image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hyperlink" Target="file:///../Local%20Settings/data/Datacomm/Technology/User%20Sites/mysite/solution_partners.htm" TargetMode="External"/><Relationship Id="rId10" Type="http://schemas.openxmlformats.org/officeDocument/2006/relationships/image" Target="../media/image16.png"/><Relationship Id="rId11" Type="http://schemas.openxmlformats.org/officeDocument/2006/relationships/hyperlink" Target="file:///../Local%20Settings/data/Datacomm/Technology/User%20Sites/mysite/solution_partners.htm" TargetMode="External"/><Relationship Id="rId12" Type="http://schemas.openxmlformats.org/officeDocument/2006/relationships/image" Target="../media/image17.png"/><Relationship Id="rId13" Type="http://schemas.openxmlformats.org/officeDocument/2006/relationships/hyperlink" Target="file:///../Local%20Settings/data/Datacomm/Technology/User%20Sites/mysite/solution_partners.htm" TargetMode="External"/><Relationship Id="rId14" Type="http://schemas.openxmlformats.org/officeDocument/2006/relationships/image" Target="../media/image18.png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jpeg"/><Relationship Id="rId19" Type="http://schemas.openxmlformats.org/officeDocument/2006/relationships/image" Target="../media/image23.png"/><Relationship Id="rId2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8080" y="2514600"/>
            <a:ext cx="872784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b601"/>
                </a:solidFill>
                <a:latin typeface="Segoe Semibold"/>
              </a:rPr>
              <a:t>The Secret to a More Competitive Law Firm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ffb601"/>
                </a:solidFill>
                <a:latin typeface="Segoe Semibold"/>
              </a:rPr>
              <a:t>Understanding and Implementing </a:t>
            </a:r>
            <a:br>
              <a:rPr sz="3200"/>
            </a:br>
            <a:r>
              <a:rPr b="0" i="1" lang="en-US" sz="3200" spc="-1" strike="noStrike">
                <a:solidFill>
                  <a:srgbClr val="ffb601"/>
                </a:solidFill>
                <a:latin typeface="Segoe Semibold"/>
              </a:rPr>
              <a:t>the Law Office of the Future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601"/>
                </a:solidFill>
                <a:latin typeface="Segoe Semibold"/>
              </a:rPr>
              <a:t>Cost-Saving Services</a:t>
            </a: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2320" y="1596960"/>
            <a:ext cx="8380440" cy="52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70000"/>
              </a:lnSpc>
              <a:spcBef>
                <a:spcPts val="1225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Mobility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70000"/>
              </a:lnSpc>
              <a:spcBef>
                <a:spcPts val="1049"/>
              </a:spcBef>
              <a:buSzPct val="1020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egoe Semibold"/>
              </a:rPr>
              <a:t>Remote access to Email, Document Management Systems, Billing and Time Keeping Systems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70000"/>
              </a:lnSpc>
              <a:spcBef>
                <a:spcPts val="1225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Flat-Rate I.T. Services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70000"/>
              </a:lnSpc>
              <a:spcBef>
                <a:spcPts val="1049"/>
              </a:spcBef>
              <a:buSzPct val="1020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egoe Semibold"/>
              </a:rPr>
              <a:t>Immediate I.T. Savings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70000"/>
              </a:lnSpc>
              <a:spcBef>
                <a:spcPts val="1225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Managed Services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70000"/>
              </a:lnSpc>
              <a:spcBef>
                <a:spcPts val="1049"/>
              </a:spcBef>
              <a:buSzPct val="10204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egoe Semibold"/>
              </a:rPr>
              <a:t>Proactive Monitoring for Long-Term Savings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70000"/>
              </a:lnSpc>
              <a:spcBef>
                <a:spcPts val="1225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Vendor Management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70000"/>
              </a:lnSpc>
              <a:spcBef>
                <a:spcPts val="1049"/>
              </a:spcBef>
              <a:buSzPct val="10204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egoe Semibold"/>
              </a:rPr>
              <a:t>Immediate Impact to the Bottom Line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70000"/>
              </a:lnSpc>
              <a:spcBef>
                <a:spcPts val="1225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Professional Services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70000"/>
              </a:lnSpc>
              <a:spcBef>
                <a:spcPts val="1049"/>
              </a:spcBef>
              <a:buSzPct val="10204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egoe Semibold"/>
              </a:rPr>
              <a:t>We get it right the First Time, Every Time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0" algn="ct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Segoe Semibold"/>
              </a:rPr>
              <a:t>Allow us to Implement your Law Office of the Future!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601"/>
                </a:solidFill>
                <a:latin typeface="Arial"/>
              </a:rPr>
              <a:t>The Law Office of the Future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362320" y="3530520"/>
            <a:ext cx="990360" cy="88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276720" y="3809880"/>
            <a:ext cx="1676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601"/>
                </a:solidFill>
                <a:latin typeface="Arial"/>
              </a:rPr>
              <a:t>PDA’s</a:t>
            </a:r>
            <a:r>
              <a:rPr b="0" lang="en-US" sz="1400" spc="-1" strike="noStrike">
                <a:solidFill>
                  <a:srgbClr val="1c2986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ffb601"/>
                </a:solidFill>
                <a:latin typeface="Arial"/>
              </a:rPr>
              <a:t>Tabl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21360" y="4495680"/>
            <a:ext cx="1447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601"/>
                </a:solidFill>
                <a:latin typeface="Arial"/>
              </a:rPr>
              <a:t>Network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601"/>
                </a:solidFill>
                <a:latin typeface="Arial"/>
              </a:rPr>
              <a:t>Monitoring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194440" y="3654360"/>
            <a:ext cx="1143000" cy="765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362640" y="3733920"/>
            <a:ext cx="1295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601"/>
                </a:solidFill>
                <a:latin typeface="Arial"/>
              </a:rPr>
              <a:t>Security</a:t>
            </a:r>
            <a:r>
              <a:rPr b="0" lang="en-US" sz="1400" spc="-1" strike="noStrike">
                <a:solidFill>
                  <a:srgbClr val="1c298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b601"/>
                </a:solidFill>
                <a:latin typeface="Arial"/>
              </a:rPr>
              <a:t>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964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Semibold"/>
              </a:rPr>
              <a:t>We Focus on Improving the Firm’s Work Product</a:t>
            </a:r>
            <a:endParaRPr b="0" lang="en-US" sz="22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964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Semibold"/>
              </a:rPr>
              <a:t>We Monitor to Assure “Anytime, Anywhere” Access to Data</a:t>
            </a:r>
            <a:endParaRPr b="0" lang="en-US" sz="22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964"/>
              </a:spcBef>
              <a:buSzPct val="1496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Semibold"/>
              </a:rPr>
              <a:t>We Implement Security and other Control Mechanisms Protect Corporate Assets and Privacy</a:t>
            </a:r>
            <a:endParaRPr b="0" lang="en-US" sz="2200" spc="-1" strike="noStrike">
              <a:solidFill>
                <a:srgbClr val="ffffff"/>
              </a:solidFill>
              <a:latin typeface="Segoe Semibold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4114800" y="4648320"/>
            <a:ext cx="992160" cy="1487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952880" y="5181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601"/>
                </a:solidFill>
                <a:latin typeface="Arial"/>
              </a:rPr>
              <a:t>Blackberr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990720" y="3809880"/>
            <a:ext cx="747720" cy="2237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00200" y="4648320"/>
            <a:ext cx="1676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601"/>
                </a:solidFill>
                <a:latin typeface="Arial"/>
              </a:rPr>
              <a:t>Came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601"/>
                </a:solidFill>
                <a:latin typeface="Arial"/>
              </a:rPr>
              <a:t>Cell Ph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6521400" y="5057640"/>
            <a:ext cx="2130480" cy="107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601"/>
                </a:solidFill>
                <a:latin typeface="Arial"/>
              </a:rPr>
              <a:t>Technology Challenges Facing Law Firms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600200"/>
            <a:ext cx="83055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90000"/>
              </a:lnSpc>
              <a:spcBef>
                <a:spcPts val="104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880" indent="-332640">
              <a:lnSpc>
                <a:spcPct val="90000"/>
              </a:lnSpc>
              <a:spcBef>
                <a:spcPts val="8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ote access to Email, Document Management Systems, Billing and Time Keeping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>
              <a:lnSpc>
                <a:spcPct val="90000"/>
              </a:lnSpc>
              <a:spcBef>
                <a:spcPts val="104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880" indent="-332640">
              <a:lnSpc>
                <a:spcPct val="90000"/>
              </a:lnSpc>
              <a:spcBef>
                <a:spcPts val="8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er and Resource Uptime Reli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>
              <a:lnSpc>
                <a:spcPct val="90000"/>
              </a:lnSpc>
              <a:spcBef>
                <a:spcPts val="1049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ster Re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880" indent="-332640">
              <a:lnSpc>
                <a:spcPct val="90000"/>
              </a:lnSpc>
              <a:spcBef>
                <a:spcPts val="876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aster Recovery Planning, Testing and Implem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>
              <a:lnSpc>
                <a:spcPct val="90000"/>
              </a:lnSpc>
              <a:spcBef>
                <a:spcPts val="1049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880" indent="-332640">
              <a:lnSpc>
                <a:spcPct val="90000"/>
              </a:lnSpc>
              <a:spcBef>
                <a:spcPts val="876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ing confidential client records Internally and External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>
              <a:lnSpc>
                <a:spcPct val="90000"/>
              </a:lnSpc>
              <a:spcBef>
                <a:spcPts val="1049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Desk and Network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880" indent="-332640">
              <a:lnSpc>
                <a:spcPct val="90000"/>
              </a:lnSpc>
              <a:spcBef>
                <a:spcPts val="876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ited Access to Technic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601"/>
                </a:solidFill>
                <a:latin typeface="Arial"/>
              </a:rPr>
              <a:t>We Can Help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848360" cy="27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104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e Availability of Data an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se Management Resources – databases and client records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1049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intain 24x7x365 Monitoring and Security for Maximum Uptime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1049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tly Reduce IT  Costs and Complexity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1049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re Attorneys and Remote Users have Mobile Access to Email and Data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717480"/>
            <a:ext cx="9144000" cy="61405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601"/>
                </a:solidFill>
                <a:latin typeface="Segoe Semibold"/>
              </a:rPr>
              <a:t>Flat-Rate I.T. Services</a:t>
            </a: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2320" y="1596600"/>
            <a:ext cx="8380440" cy="50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1225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Support and maintain your entire Organization Remotely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1225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Phone Support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1225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Remote Assistance (Desktop Sharing)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1225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Live Meeting (Online Collaboration)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1225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State-Of-The-Art Trouble-Ticketing System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1225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Automated Escalation Process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1225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Onsite Support As Need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Segoe Semibold"/>
              </a:rPr>
              <a:t>All for One Fixed Monthly Cost!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601"/>
                </a:solidFill>
                <a:latin typeface="Segoe Semibold"/>
              </a:rPr>
              <a:t>Managed Services</a:t>
            </a: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2320" y="1596960"/>
            <a:ext cx="8380440" cy="517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1225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24x7x365 Network Monitoring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1225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Over 255 Events/Services Monitored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1225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Critical Services Automatically Restarted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1225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Immediate Alerting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1225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Automated Trouble-Ticket Generation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1225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Automated Escalation Process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1225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Proactiv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Segoe Semibold"/>
              </a:rPr>
              <a:t>no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egoe Semibold"/>
              </a:rPr>
              <a:t>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Segoe Semibold"/>
              </a:rPr>
              <a:t>Reactive</a:t>
            </a:r>
            <a:br>
              <a:rPr sz="2800"/>
            </a:b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Segoe Semibol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Segoe Semibold"/>
              </a:rPr>
              <a:t>Insures Maximum Uptime for Critical Equipment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601"/>
                </a:solidFill>
                <a:latin typeface="Segoe Semibold"/>
              </a:rPr>
              <a:t>Vendor Management</a:t>
            </a: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2320" y="1596960"/>
            <a:ext cx="8380440" cy="532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104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egoe Semibold"/>
              </a:rPr>
              <a:t>Our Most Popular $$$-Saving Service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1049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Manage all Vendor Relationships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90000"/>
              </a:lnSpc>
              <a:spcBef>
                <a:spcPts val="876"/>
              </a:spcBef>
              <a:buSzPct val="1224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Phone and Internet Service and Providers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1049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All Voice or Data Network-Connected Equipment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90000"/>
              </a:lnSpc>
              <a:spcBef>
                <a:spcPts val="876"/>
              </a:spcBef>
              <a:buSzPct val="1224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Phone Systems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90000"/>
              </a:lnSpc>
              <a:spcBef>
                <a:spcPts val="876"/>
              </a:spcBef>
              <a:buSzPct val="1224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Faxes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90000"/>
              </a:lnSpc>
              <a:spcBef>
                <a:spcPts val="876"/>
              </a:spcBef>
              <a:buSzPct val="1224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Scanners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90000"/>
              </a:lnSpc>
              <a:spcBef>
                <a:spcPts val="876"/>
              </a:spcBef>
              <a:buSzPct val="1224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Copiers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1049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Proprietary Software Applicatio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Segoe Semibold"/>
              </a:rPr>
              <a:t>Frees You to Focus on Running Your Business – </a:t>
            </a:r>
            <a:br>
              <a:rPr sz="2400"/>
            </a:b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Segoe Semibold"/>
              </a:rPr>
              <a:t>Not Your Vendors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601"/>
                </a:solidFill>
                <a:latin typeface="Segoe Semibold"/>
              </a:rPr>
              <a:t>Professional Services</a:t>
            </a: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2320" y="1596960"/>
            <a:ext cx="8380440" cy="47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1137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Semibold"/>
              </a:rPr>
              <a:t>Technology Solution Design and Development</a:t>
            </a:r>
            <a:endParaRPr b="0" lang="en-US" sz="26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90000"/>
              </a:lnSpc>
              <a:spcBef>
                <a:spcPts val="1137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Semibold"/>
              </a:rPr>
              <a:t>Proof-of-Concept Lab Testing </a:t>
            </a:r>
            <a:endParaRPr b="0" lang="en-US" sz="26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90000"/>
              </a:lnSpc>
              <a:spcBef>
                <a:spcPts val="1137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Semibold"/>
              </a:rPr>
              <a:t>Onsite Implementation </a:t>
            </a:r>
            <a:endParaRPr b="0" lang="en-US" sz="26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90000"/>
              </a:lnSpc>
              <a:spcBef>
                <a:spcPts val="1137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Semibold"/>
              </a:rPr>
              <a:t>Project Management</a:t>
            </a:r>
            <a:endParaRPr b="0" lang="en-US" sz="26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90000"/>
              </a:lnSpc>
              <a:spcBef>
                <a:spcPts val="1137"/>
              </a:spcBef>
              <a:buSzPct val="1266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Semibold"/>
              </a:rPr>
              <a:t>Disaster Recovery Planning and Response</a:t>
            </a:r>
            <a:endParaRPr b="0" lang="en-US" sz="26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90000"/>
              </a:lnSpc>
              <a:spcBef>
                <a:spcPts val="1137"/>
              </a:spcBef>
              <a:buSzPct val="1266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Semibold"/>
              </a:rPr>
              <a:t>Intrusion Detection and Security Testing</a:t>
            </a:r>
            <a:endParaRPr b="0" lang="en-US" sz="26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90000"/>
              </a:lnSpc>
              <a:spcBef>
                <a:spcPts val="1137"/>
              </a:spcBef>
              <a:buSzPct val="12665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Semibold"/>
              </a:rPr>
              <a:t>Secure Point-to-Point VPN Design</a:t>
            </a:r>
            <a:endParaRPr b="0" lang="en-US" sz="26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90000"/>
              </a:lnSpc>
              <a:spcBef>
                <a:spcPts val="1137"/>
              </a:spcBef>
              <a:buSzPct val="12665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Segoe Semibold"/>
              </a:rPr>
              <a:t>Co-Location Services for High-Availability Services</a:t>
            </a:r>
            <a:br>
              <a:rPr sz="2600"/>
            </a:br>
            <a:r>
              <a:rPr b="0" lang="en-US" sz="2600" spc="-1" strike="noStrike">
                <a:solidFill>
                  <a:srgbClr val="ff0000"/>
                </a:solidFill>
                <a:latin typeface="Segoe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Segoe Semibold"/>
              </a:rPr>
              <a:t>We Create a Technology Plan that Serves Your Mission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717480"/>
            <a:ext cx="9144000" cy="3633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rot="16200000">
            <a:off x="-1171080" y="270792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601"/>
                </a:solidFill>
                <a:latin typeface="Arial"/>
              </a:rPr>
              <a:t>Business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449600" y="2604960"/>
            <a:ext cx="2438640" cy="2438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468520" y="260496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398760" y="1004760"/>
            <a:ext cx="2438640" cy="2438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3473280" y="21016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H="1">
            <a:off x="6853320" y="3218040"/>
            <a:ext cx="2054160" cy="932400"/>
          </a:xfrm>
          <a:prstGeom prst="rect">
            <a:avLst/>
          </a:prstGeom>
          <a:solidFill>
            <a:srgbClr val="1c29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e993"/>
                </a:solidFill>
                <a:latin typeface="Arial"/>
              </a:rPr>
              <a:t>Solution Categorie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lution Design, Project Management, On-Site Implementation. On-Site Response Servic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0080" y="4172040"/>
            <a:ext cx="2057400" cy="360"/>
          </a:xfrm>
          <a:prstGeom prst="line">
            <a:avLst/>
          </a:prstGeom>
          <a:noFill/>
          <a:ln w="28440">
            <a:solidFill>
              <a:srgbClr val="ffb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03320" y="3218040"/>
            <a:ext cx="452520" cy="438120"/>
          </a:xfrm>
          <a:prstGeom prst="line">
            <a:avLst/>
          </a:prstGeom>
          <a:noFill/>
          <a:ln w="28440">
            <a:solidFill>
              <a:srgbClr val="ffb6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843600" y="3214080"/>
            <a:ext cx="2063880" cy="6120"/>
          </a:xfrm>
          <a:prstGeom prst="line">
            <a:avLst/>
          </a:prstGeom>
          <a:noFill/>
          <a:ln w="28440">
            <a:solidFill>
              <a:srgbClr val="ffb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0200" y="1525680"/>
            <a:ext cx="2685960" cy="468000"/>
          </a:xfrm>
          <a:prstGeom prst="rect">
            <a:avLst/>
          </a:prstGeom>
          <a:solidFill>
            <a:srgbClr val="1c2986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e993"/>
                </a:solidFill>
                <a:latin typeface="Arial"/>
              </a:rPr>
              <a:t>Solution Categorie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hone Support, Remote Assis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0200" y="1987560"/>
            <a:ext cx="2685960" cy="19080"/>
          </a:xfrm>
          <a:prstGeom prst="line">
            <a:avLst/>
          </a:prstGeom>
          <a:noFill/>
          <a:ln w="28440">
            <a:solidFill>
              <a:srgbClr val="ffb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0200" y="1522440"/>
            <a:ext cx="3295800" cy="9360"/>
          </a:xfrm>
          <a:prstGeom prst="line">
            <a:avLst/>
          </a:prstGeom>
          <a:noFill/>
          <a:ln w="28440">
            <a:solidFill>
              <a:srgbClr val="ffb6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168720"/>
            <a:ext cx="2119320" cy="932400"/>
          </a:xfrm>
          <a:prstGeom prst="rect">
            <a:avLst/>
          </a:prstGeom>
          <a:solidFill>
            <a:srgbClr val="1c2986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e993"/>
                </a:solidFill>
                <a:latin typeface="Arial"/>
              </a:rPr>
              <a:t>Solution Categorie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ssion-Critical Monitoring. Servers, Routers, Switches, Line-of-Business Applications 24x7x365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4132440"/>
            <a:ext cx="2119320" cy="360"/>
          </a:xfrm>
          <a:prstGeom prst="line">
            <a:avLst/>
          </a:prstGeom>
          <a:noFill/>
          <a:ln w="28440">
            <a:solidFill>
              <a:srgbClr val="ffb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00200" y="3171960"/>
            <a:ext cx="547920" cy="442800"/>
          </a:xfrm>
          <a:prstGeom prst="line">
            <a:avLst/>
          </a:prstGeom>
          <a:noFill/>
          <a:ln w="28440">
            <a:solidFill>
              <a:srgbClr val="ffb6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3171960"/>
            <a:ext cx="2119320" cy="360"/>
          </a:xfrm>
          <a:prstGeom prst="line">
            <a:avLst/>
          </a:prstGeom>
          <a:noFill/>
          <a:ln w="28440">
            <a:solidFill>
              <a:srgbClr val="ffb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2720" y="1432080"/>
            <a:ext cx="1221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b601"/>
                </a:solidFill>
                <a:latin typeface="Arial"/>
              </a:rPr>
              <a:t>Flat-R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b601"/>
                </a:solidFill>
                <a:latin typeface="Arial"/>
              </a:rPr>
              <a:t>I.T.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81960" y="2214720"/>
            <a:ext cx="1274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b601"/>
                </a:solidFill>
                <a:latin typeface="Arial"/>
              </a:rPr>
              <a:t>Ven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b601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3600360"/>
            <a:ext cx="1268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b601"/>
                </a:solidFill>
                <a:latin typeface="Arial"/>
              </a:rPr>
              <a:t>Profess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b601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74880" y="3579840"/>
            <a:ext cx="167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b601"/>
                </a:solidFill>
                <a:latin typeface="Arial"/>
              </a:rPr>
              <a:t>Manag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b601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215760" y="1530360"/>
            <a:ext cx="2318040" cy="777600"/>
          </a:xfrm>
          <a:prstGeom prst="rect">
            <a:avLst/>
          </a:prstGeom>
          <a:solidFill>
            <a:srgbClr val="1c2986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e993"/>
                </a:solidFill>
                <a:latin typeface="Arial"/>
              </a:rPr>
              <a:t>Solution Categorie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nage all Technology Relationships. Single point of contact for all Vendor issu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221520" y="2297160"/>
            <a:ext cx="2311200" cy="36360"/>
          </a:xfrm>
          <a:prstGeom prst="line">
            <a:avLst/>
          </a:prstGeom>
          <a:gradFill rotWithShape="0">
            <a:gsLst>
              <a:gs pos="0">
                <a:srgbClr val="c3c3c3">
                  <a:alpha val="25098"/>
                </a:srgbClr>
              </a:gs>
              <a:gs pos="50000">
                <a:srgbClr val="b2b2b2">
                  <a:alpha val="59215"/>
                </a:srgbClr>
              </a:gs>
              <a:gs pos="100000">
                <a:srgbClr val="c3c3c3">
                  <a:alpha val="25098"/>
                </a:srgbClr>
              </a:gs>
            </a:gsLst>
            <a:lin ang="5400000"/>
          </a:gradFill>
          <a:ln w="28440">
            <a:solidFill>
              <a:srgbClr val="ffb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122080" y="1528920"/>
            <a:ext cx="793800" cy="833400"/>
          </a:xfrm>
          <a:prstGeom prst="line">
            <a:avLst/>
          </a:prstGeom>
          <a:gradFill rotWithShape="0">
            <a:gsLst>
              <a:gs pos="0">
                <a:srgbClr val="c3c3c3">
                  <a:alpha val="25098"/>
                </a:srgbClr>
              </a:gs>
              <a:gs pos="50000">
                <a:srgbClr val="b2b2b2">
                  <a:alpha val="59215"/>
                </a:srgbClr>
              </a:gs>
              <a:gs pos="100000">
                <a:srgbClr val="c3c3c3">
                  <a:alpha val="25098"/>
                </a:srgbClr>
              </a:gs>
            </a:gsLst>
            <a:lin ang="5400000"/>
          </a:gradFill>
          <a:ln w="28440">
            <a:solidFill>
              <a:srgbClr val="ffb6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932440" y="1522440"/>
            <a:ext cx="2581200" cy="360"/>
          </a:xfrm>
          <a:prstGeom prst="line">
            <a:avLst/>
          </a:prstGeom>
          <a:gradFill rotWithShape="0">
            <a:gsLst>
              <a:gs pos="0">
                <a:srgbClr val="c3c3c3">
                  <a:alpha val="25098"/>
                </a:srgbClr>
              </a:gs>
              <a:gs pos="50000">
                <a:srgbClr val="b2b2b2">
                  <a:alpha val="59215"/>
                </a:srgbClr>
              </a:gs>
              <a:gs pos="100000">
                <a:srgbClr val="c3c3c3">
                  <a:alpha val="25098"/>
                </a:srgbClr>
              </a:gs>
            </a:gsLst>
            <a:lin ang="5400000"/>
          </a:gradFill>
          <a:ln w="28440">
            <a:solidFill>
              <a:srgbClr val="ffb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-76320" y="5765760"/>
            <a:ext cx="9220320" cy="1092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rot="16200000">
            <a:off x="-302760" y="613440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b601"/>
                </a:solidFill>
                <a:latin typeface="Arial"/>
              </a:rPr>
              <a:t>Partn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0" y="4441680"/>
            <a:ext cx="9144000" cy="1295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rot="16200000">
            <a:off x="-419760" y="4808880"/>
            <a:ext cx="135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b601"/>
                </a:solidFill>
                <a:latin typeface="Arial"/>
              </a:rPr>
              <a:t>Client an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b601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9440" y="5126040"/>
            <a:ext cx="237780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ntify where $$$ is being los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36840" y="5124600"/>
            <a:ext cx="23781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design business proce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67360" y="5124600"/>
            <a:ext cx="31384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tilize Technology to improve effici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65640" y="5361120"/>
            <a:ext cx="2377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$$$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240" y="414000"/>
            <a:ext cx="87519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601"/>
                </a:solidFill>
                <a:latin typeface="Segoe Semibold"/>
              </a:rPr>
              <a:t>360° Service View</a:t>
            </a: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06440" y="5977080"/>
            <a:ext cx="8499600" cy="758520"/>
            <a:chOff x="406440" y="5977080"/>
            <a:chExt cx="8499600" cy="758520"/>
          </a:xfrm>
        </p:grpSpPr>
        <p:sp>
          <p:nvSpPr>
            <p:cNvPr id="110" name=""/>
            <p:cNvSpPr/>
            <p:nvPr/>
          </p:nvSpPr>
          <p:spPr>
            <a:xfrm>
              <a:off x="406440" y="5977080"/>
              <a:ext cx="8499600" cy="707760"/>
            </a:xfrm>
            <a:prstGeom prst="rect">
              <a:avLst/>
            </a:prstGeom>
            <a:solidFill>
              <a:srgbClr val="faf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87440" y="5978520"/>
              <a:ext cx="8340480" cy="757080"/>
              <a:chOff x="487440" y="5978520"/>
              <a:chExt cx="8340480" cy="757080"/>
            </a:xfrm>
          </p:grpSpPr>
          <p:pic>
            <p:nvPicPr>
              <p:cNvPr id="112" name="citrixLogo" descr="Citrix Systems">
                <a:hlinkClick r:id="rId9"/>
              </p:cNvPr>
              <p:cNvPicPr/>
              <p:nvPr/>
            </p:nvPicPr>
            <p:blipFill>
              <a:blip r:embed="rId10"/>
              <a:stretch/>
            </p:blipFill>
            <p:spPr>
              <a:xfrm>
                <a:off x="4283640" y="5978520"/>
                <a:ext cx="858240" cy="75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Cisco Systems, Inc.(R)">
                <a:hlinkClick r:id="rId11"/>
              </p:cNvPr>
              <p:cNvPicPr/>
              <p:nvPr/>
            </p:nvPicPr>
            <p:blipFill>
              <a:blip r:embed="rId12"/>
              <a:stretch/>
            </p:blipFill>
            <p:spPr>
              <a:xfrm>
                <a:off x="5218920" y="5986440"/>
                <a:ext cx="825120" cy="62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>
                <a:hlinkClick r:id="rId13"/>
              </p:cNvPr>
              <p:cNvPicPr/>
              <p:nvPr/>
            </p:nvPicPr>
            <p:blipFill>
              <a:blip r:embed="rId14"/>
              <a:stretch/>
            </p:blipFill>
            <p:spPr>
              <a:xfrm>
                <a:off x="6231240" y="5986800"/>
                <a:ext cx="759240" cy="640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5" name=""/>
              <p:cNvGrpSpPr/>
              <p:nvPr/>
            </p:nvGrpSpPr>
            <p:grpSpPr>
              <a:xfrm>
                <a:off x="487440" y="6123960"/>
                <a:ext cx="3647520" cy="548640"/>
                <a:chOff x="487440" y="6123960"/>
                <a:chExt cx="3647520" cy="548640"/>
              </a:xfrm>
            </p:grpSpPr>
            <p:pic>
              <p:nvPicPr>
                <p:cNvPr id="11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87440" y="6123960"/>
                  <a:ext cx="2563200" cy="431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315240" y="6123960"/>
                  <a:ext cx="819720" cy="54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"/>
                <p:cNvSpPr/>
                <p:nvPr/>
              </p:nvSpPr>
              <p:spPr>
                <a:xfrm>
                  <a:off x="3152880" y="6127200"/>
                  <a:ext cx="0" cy="418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360" rIns="3636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19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210440" y="6199200"/>
                <a:ext cx="627120" cy="27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8018640" y="6176520"/>
                <a:ext cx="809280" cy="299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21" name="" descr=""/>
          <p:cNvPicPr/>
          <p:nvPr/>
        </p:nvPicPr>
        <p:blipFill>
          <a:blip r:embed="rId19"/>
          <a:stretch/>
        </p:blipFill>
        <p:spPr>
          <a:xfrm>
            <a:off x="3459240" y="2604960"/>
            <a:ext cx="2286000" cy="193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21:07:52Z</dcterms:created>
  <dc:creator/>
  <dc:description/>
  <dc:language>en-US</dc:language>
  <cp:lastModifiedBy>Erick Simpson</cp:lastModifiedBy>
  <dcterms:modified xsi:type="dcterms:W3CDTF">2006-08-18T13:28:32Z</dcterms:modified>
  <cp:revision>79</cp:revision>
  <dc:subject/>
  <dc:title>Managed Services Legal Clie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